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217-E73E-44E5-8881-ACAFA8EA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6B3-B508-4CCA-8CF5-8AEEEE4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740-89F6-4C0B-8BAA-EB99AC13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01F-3CE7-442C-A81B-70B97980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E84-A84F-4AE4-9214-5515662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FA7-EB47-493A-8ED3-C60C3469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ADB-F766-46AE-A824-E35630CD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FD6-C016-41BD-9EC0-108F619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9FA-86A7-40B5-80F5-D6A6BAE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C55-0A52-46DE-AFD8-EED11A5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D0C-57EF-439E-96E0-15650354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F21-8163-407C-8E5B-386BBF1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6157-DC00-49E6-82CA-BC33561F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RMACIÓN DEL PRESENTE DE INDICA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69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1ª Y 2ª CONJUGACIÓ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7800" y="4653000"/>
            <a:ext cx="4915800" cy="307080"/>
          </a:xfrm>
          <a:prstGeom prst="rect">
            <a:avLst/>
          </a:prstGeom>
          <a:solidFill>
            <a:srgbClr val="99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RAÍZ +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VOCAL DE UNIÓN +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6320" y="3668760"/>
            <a:ext cx="41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3ª Y 4ª CONJUGACIÓ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3560" y="3068640"/>
            <a:ext cx="3166200" cy="307080"/>
          </a:xfrm>
          <a:prstGeom prst="rect">
            <a:avLst/>
          </a:prstGeom>
          <a:solidFill>
            <a:srgbClr val="99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RAÍZ +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SENTE DE INDI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81400" y="2244600"/>
          <a:ext cx="4417560" cy="3792240"/>
        </p:xfrm>
        <a:graphic>
          <a:graphicData uri="http://schemas.openxmlformats.org/drawingml/2006/table">
            <a:tbl>
              <a:tblPr/>
              <a:tblGrid>
                <a:gridCol w="2077200"/>
                <a:gridCol w="234036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NSE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25520" y="1887480"/>
          <a:ext cx="5070240" cy="3827160"/>
        </p:xfrm>
        <a:graphic>
          <a:graphicData uri="http://schemas.openxmlformats.org/drawingml/2006/table">
            <a:tbl>
              <a:tblPr/>
              <a:tblGrid>
                <a:gridCol w="1681920"/>
                <a:gridCol w="1804680"/>
                <a:gridCol w="1583640"/>
              </a:tblGrid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mix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977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SENTE 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411120" y="1928880"/>
            <a:ext cx="99662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1120" y="1928880"/>
            <a:ext cx="99662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1042920"/>
                <a:gridCol w="1397160"/>
                <a:gridCol w="1841400"/>
                <a:gridCol w="1685880"/>
                <a:gridCol w="1495440"/>
                <a:gridCol w="1682640"/>
              </a:tblGrid>
              <a:tr h="1419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PRESENTE DE INDICATIVO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j. mix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96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-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(yo am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30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 DE IN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VERBO SU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13:56Z</dcterms:created>
  <dc:creator>IES</dc:creator>
  <dc:description/>
  <dc:language>en-US</dc:language>
  <cp:lastModifiedBy>IES</cp:lastModifiedBy>
  <dcterms:modified xsi:type="dcterms:W3CDTF">2010-05-18T11:26:56Z</dcterms:modified>
  <cp:revision>3</cp:revision>
  <dc:subject/>
  <dc:title>Diapositiva 1</dc:title>
</cp:coreProperties>
</file>